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5CB94-8D00-4C1B-904F-44D2999CA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EAA40-8D0C-410B-A459-928A7C00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8EECB-F471-445F-8B9E-00C842EB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5F3FF-9176-4E30-A8FD-6F567A863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2615D-404D-4505-8ADE-063A72A19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831DD-0F6C-4911-8C1F-F706AC409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C77FC-C2B1-4E15-974B-7E7D926A2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C4A03-CE3A-49E3-9133-88A21ED9C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EA5D0-9CCF-429F-AF2E-287D79120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90BF8-CE0E-423B-B653-AF007C764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F9FEB-BA8C-4533-BD7B-7CC8EE19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272A-F4E3-4F39-8E51-731FFAA7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B6611-FEA1-46D5-BCFD-9AA26B7CC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76B61-3535-4285-93D7-9B56616D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E1435-53F5-4604-A356-C1CE59F73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E2964-415B-43D2-A330-6B915EE6A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B70A3-76A3-4610-B828-79B82A613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7107BA-53A0-4321-A6D6-615E75647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00C62-8D71-48BE-9D58-765A77330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C7827-B2F0-4F7B-90B8-C67125934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4E9FF-DFCF-4B0D-BF58-576F88124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91546-A02B-425F-84FF-CB2C6089B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D47A0-AFA8-4EAF-BBCC-5684A3BB2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08B86-0DFC-401A-9EB5-A8E407545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5C32B-76C2-4DC9-A6F4-C46597313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00CD3-B30F-4DE1-A103-386711B3A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76D80-761E-4727-A6E2-7D8114365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CA239-20C1-4198-86E3-937AAECDE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344B1B-F2BD-4752-8918-6FA1071EE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F501E-A004-497F-9622-A84B70684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FA33D-6926-44A0-85E2-1283221E9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E0563-78AB-4820-AEB6-2AAFD5B1A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D5F8B-FEAC-44A1-B0A3-880942481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ECCA-6C8B-49E1-8572-3623354F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CC6C4-6D54-44DF-9DDF-AF08302A5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C89C6-509E-4369-8324-8DCC75F09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D4CBC-DD03-4C9E-9188-DA9D20A1C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CDE8C-3A8B-4270-927B-9E03279FF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AF204-E894-49DA-AB44-9974ED77B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D5031-CC7A-4AA6-B1E4-B41EBD723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4883E-77B7-4AE1-B6DD-F78CA457E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7534F8-935A-4752-B351-9BA0B6B83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A29F2-DF5E-49B4-B379-72F547B826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A8E3-5702-4B62-BF31-0B016AC8A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D6C2-9409-47B9-8034-8173639C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456E-5E9C-4D05-A27F-7FE95745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6D3F-0D22-45B0-A654-484907A1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915C-869F-49E2-8C31-6F759F50C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8A2D-5A24-4333-B2C7-73415911CB2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5F35-3024-42FF-9F18-73431A6CC95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2336-4AAF-415A-BA2F-F62C0557A18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7C8F-C21C-4E76-A8B4-4FA2BD45DCB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03360" y="835200"/>
            <a:ext cx="7864200" cy="19508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TA: Shreya Rawal</a:t>
            </a:r>
            <a:endParaRPr b="0" lang="en-US" sz="21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Slides Reference: Dina A. Said</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2519-6B9A-4EF2-8465-1FD6DD61FC4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2"/>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D1BF-BF81-43FF-98A1-2C3A3487E2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2"/>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D9A9-B08E-4371-9CE8-F35CD8C3E54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3C7C-2A53-428C-97EC-8174D21E2C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6662-E016-4939-9E66-58EEA4A413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2A45-70AB-43EC-BFD6-E74A9957B8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0000" cy="384120"/>
            <a:chOff x="835200" y="1060560"/>
            <a:chExt cx="1530000" cy="384120"/>
          </a:xfrm>
        </p:grpSpPr>
        <p:pic>
          <p:nvPicPr>
            <p:cNvPr id="286" name="TextBox 22" descr=""/>
            <p:cNvPicPr/>
            <p:nvPr/>
          </p:nvPicPr>
          <p:blipFill>
            <a:blip r:embed="rId2"/>
            <a:stretch/>
          </p:blipFill>
          <p:spPr>
            <a:xfrm>
              <a:off x="835200" y="1060560"/>
              <a:ext cx="153000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r Interface Design Process</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2CC1-1B2D-4959-95CF-9E81717E13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7" name="Picture 6" descr=""/>
          <p:cNvPicPr/>
          <p:nvPr/>
        </p:nvPicPr>
        <p:blipFill>
          <a:blip r:embed="rId2"/>
          <a:stretch/>
        </p:blipFill>
        <p:spPr>
          <a:xfrm>
            <a:off x="2057400" y="1981080"/>
            <a:ext cx="5334120" cy="423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8983-0DE0-439A-85A7-1D2D8054B41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4C97-AB7A-4B62-B26B-C539B798085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2"/>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DE98-AB2F-495D-AA22-D747AB78C1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2"/>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230E-C51B-4889-AF6D-35F7DCB13E5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2"/>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7434-85E5-44FC-A871-6D3DCDE219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83D0-865F-40F7-B65A-DF1AF57960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CC1C-0250-4820-A7C7-C200F1758F8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2"/>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922B-342B-40F2-A1C4-160306E981F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2"/>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7508-55EC-4F77-8839-6C99378CB41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5:47:59Z</dcterms:created>
  <dc:creator/>
  <dc:description/>
  <dc:language>en-US</dc:language>
  <cp:lastModifiedBy>Shreya Rawal</cp:lastModifiedBy>
  <dcterms:modified xsi:type="dcterms:W3CDTF">2009-04-06T16:31:01Z</dcterms:modified>
  <cp:revision>5</cp:revision>
  <dc:subject/>
  <dc:title>CPSC 203 Design Skills</dc:title>
</cp:coreProperties>
</file>